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185E-4AFB-4184-A184-20979FE6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4FBE-1BC0-46E5-898C-07E5CA542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123-9FCD-4F19-9C8B-D8119AB4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F01-580F-44BD-B2DE-EB72B388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79F-9581-46F7-B646-C6AB7C2B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547-2B94-4E85-BB64-036BB95A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1220-4CE7-4394-BA17-3B5A8586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EC74-216B-43C7-BF55-7FE0843D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37AD-B337-4A6F-AF18-077FF49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0AA9-BFAD-4EEF-A268-C95896BE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DC88-8A36-4636-A379-D21B321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E204-7ADF-484C-A5FD-5FDFAC88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4750-7A06-45E2-A672-D3FADBA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5D0-763B-48CE-8A51-127C78F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D847-8E87-40E7-8493-40F79FCB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65E7-C6CD-430D-BF34-6FC8D240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57AE-4E14-41F8-85E1-D4A8503C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E3B7-9AA6-4946-93D1-10D70850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D26-D2AC-4242-A824-E9AB9CD8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6BB-E0FC-4097-9D20-8991DB00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8B1-99AB-48DC-BED7-862F5564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B55-423C-4444-BD16-64F5DAA7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1A3-F55D-4498-B7C6-DED38576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096-6996-45A6-9D2E-8AFFCC2A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4EC-248E-4EE8-B3DE-A24F10C9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9AF-78F3-4576-9B3B-D62FF950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36E3-548C-44E9-9FCE-73BC2AD27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EE9D-274E-41D5-ABEB-58B59369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DISTRICT     AGRICULTURE DEVELOPMENT OFFICES IN MALAWI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8092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300" spc="-1" strike="noStrike">
                <a:solidFill>
                  <a:srgbClr val="000000"/>
                </a:solidFill>
                <a:latin typeface="Arial"/>
              </a:rPr>
              <a:t>CHALLENGES IN INTENSIFICATION OF AGRICULTURAL ACTIV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CHALLE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staff at field lev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rratic rainf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Dwindling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financial resources to implement field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WAY FORW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lead farm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drought tolerant intervention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cropping systems that help to increase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ncourage harmonization of programmes and resources to best implement  agric.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ZIKO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ffing Pos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7620120" cy="19936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636560"/>
                <a:gridCol w="1621080"/>
                <a:gridCol w="1619280"/>
              </a:tblGrid>
              <a:tr h="42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AC.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7"/>
          <p:cNvGraphicFramePr/>
          <p:nvPr/>
        </p:nvGraphicFramePr>
        <p:xfrm>
          <a:off x="3352680" y="7162920"/>
          <a:ext cx="5186520" cy="7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7162920"/>
                    <a:ext cx="518652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336666"/>
                </a:solidFill>
                <a:latin typeface="Arial Black"/>
              </a:rPr>
              <a:t>RAINFALL VARIABILITY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fall pattern is erratic in some parts of the distr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the mean rainfall for the districts in 2011/12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compa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last year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rly planted crops (mainly maize and legumes), face great damage and full recovery is almost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Rainfall cont’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Effects of Weather (rainfall) on Crop, Livestock   &amp; Fish Development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 germination and emergence causing continued replanting/gap f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/pasture establishment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fertilizer utilization and very difficult to achieve timely fertil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ig differences in crop stages within or amo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achieve timely planting/transplanting and herbicide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ying up of p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the food situation for the districts is at around 9% (farm families without own food) compared to almost 1% same time last year (fig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d is available in most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co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Coping Mechanisms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nsecure households are surviving through the following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casual labour in exchange for food or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charcoal and fire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of other commodities like mats, vegetable and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ots and baskets with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ction fig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ze production has decreased by 12% from 175,000MT in 2010/11 season to 153,000MT in 2011/12 seas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y spell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soil fertility as a result of low input uptake.( FISP+ other soil fertility interventions to sustain soil productivi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02:08Z</dcterms:created>
  <dc:creator>Malon</dc:creator>
  <dc:description/>
  <dc:language>en-US</dc:language>
  <cp:lastModifiedBy>Admin</cp:lastModifiedBy>
  <dcterms:modified xsi:type="dcterms:W3CDTF">2012-10-02T16:40:55Z</dcterms:modified>
  <cp:revision>147</cp:revision>
  <dc:subject/>
  <dc:title>NTCHEU DISTRICT     AGRICULTURE DEVELOPMENT OFFICE</dc:title>
</cp:coreProperties>
</file>